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FCEB-84E8-424D-B1E8-ED09E39B0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F37C-1DA2-4CE6-BA92-3058B33A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3398-6BA7-4379-9D87-6D9E5701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E11A-8DA9-498B-A2CF-995390C17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4263-F207-48AF-8BAA-B2647CA8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F89E-613A-40BC-B29F-024A53BE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368A-DABF-40D7-A261-E8506200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5C17-CA68-4C5C-A5F3-8EF7FBBA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78F2-D0D6-494F-B789-F12B84E8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DC14-8B34-449A-9B57-919A88AC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0303-B31E-4C15-A5CD-AEE8F044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9205-3B62-43E6-9C59-261CE232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7354-EE02-44AA-931B-B3265BCCB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ement of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Karen Chen and Mona Zhe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Movement in Russ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ages pulled by ho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86200" y="1523880"/>
            <a:ext cx="380988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 C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aliningr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lining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. Peter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rman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adivos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rak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40482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s of port c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s of different transpor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ga river carries half of Russia's river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124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s are crow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can lose stuff when they enter the 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ion-takes 8 or more days to travel across Rus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41:42Z</dcterms:created>
  <dc:creator> </dc:creator>
  <dc:description/>
  <dc:language>en-US</dc:language>
  <cp:lastModifiedBy> </cp:lastModifiedBy>
  <dcterms:modified xsi:type="dcterms:W3CDTF">2010-12-14T15:02:19Z</dcterms:modified>
  <cp:revision>2</cp:revision>
  <dc:subject/>
  <dc:title>Movement of Russia</dc:title>
</cp:coreProperties>
</file>